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760-E21C-44B0-8A06-98D1013C14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k! Let’s see the software installation of ezPhon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hould install LDK TSP software fir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follow the installation proced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finishing the TSP s/w installation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hould reboot the serv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rebooting the serve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need to check if TSP is installed normally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control panel of the serv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rebooting the serve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need to check if TSP is installed normally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control panel of the serv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rebooting the serve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need to check if TSP is installed normally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control panel of the serv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finishing the ezPhone installation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recommend you to reboot the comput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fore executing the ezPhone program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the ezPhone main window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window consists of Main Menu, Top Tool Bar, Call Window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Window, Message Window, MS Scheduler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Information Window and Icon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e will introduce ezPhone with the following ord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33cc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ain menu consists of File, Program, Tools and Abou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menu has these kinds of sub menu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Convert, Print option, and Exi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enu has these kinds of sub menu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SP Setting, Language Setting, Forward, VMIB Control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x Btn Assignment, Conference Room, SM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My Station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 menu has these kinds of sub menu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SMS Mobile, Short Cut Display, Key mapping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ize, Option, TaskBar Tray Icon and Always On Top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ly in the About, you can see the information of ezPhon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Top Toolba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features are the same as ezAT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ation information window provides station info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book, log view and schedule dia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book and log view features are the same as ezAT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will explain Station info and schedule dial next p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info provides 4 display types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 type, icon type, small icon type and list typ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zATD provides the following call related featur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zATD provides the following PC related featur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There are two types of ez Phone versi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One is an entry, the other is a delux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The entry version have a limit of capacity and local DB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The deluxe version provides DB conversion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SMS to Keyset and Attendant Integr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The following features are provided per each pack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you can see, ezPhone is connected to LA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need the following h/w and s/w requirement that the ezPhone is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DK provides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nd 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arty for TSP serv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shows the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arty interfa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 need a CTIU module for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arty connec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shows the 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party interfa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SP server is connected to LA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ommunicate with LDK syste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zPhone provides the following major featur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본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A9D5-DEB0-478C-98F6-8F5A32EE7CA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027600" y="157176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Verdana"/>
              </a:rPr>
              <a:t>ezPhone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92280"/>
            <a:ext cx="577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ou must Setup TSP File First.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바탕"/>
              </a:rPr>
              <a:t>   Please refer to TAPI par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바탕"/>
              </a:rPr>
              <a:t>And setup ezPhon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4800600" cy="3714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940360" y="2133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‘Next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7495200" y="566748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1370160"/>
            <a:ext cx="4800600" cy="3714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566840" y="566748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3894840" y="444348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69228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ter ‘User Name’ and ‘Organization’ and select ‘Next’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2205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ezPhone typ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154160"/>
            <a:ext cx="4800600" cy="3714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94840" y="429264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7517520" y="566748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69228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firm folder and select ‘Next’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2133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‘Install’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1154160"/>
            <a:ext cx="4800600" cy="3714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40360" y="2492280"/>
            <a:ext cx="4800600" cy="3714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17520" y="559584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2133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‘Finish’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0" t="0" r="75703" b="61843"/>
          <a:stretch/>
        </p:blipFill>
        <p:spPr>
          <a:xfrm>
            <a:off x="539640" y="1052640"/>
            <a:ext cx="3240360" cy="3816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8920" y="3213000"/>
            <a:ext cx="86508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148428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zPhone’ is show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1200" y="15228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53240" y="958680"/>
            <a:ext cx="79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Butt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tup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 Pane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hone and Modem Opti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ling Ru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3238200" y="2808360"/>
            <a:ext cx="121932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6" name="4 copy" descr=""/>
          <p:cNvPicPr/>
          <p:nvPr/>
        </p:nvPicPr>
        <p:blipFill>
          <a:blip r:embed="rId1"/>
          <a:stretch/>
        </p:blipFill>
        <p:spPr>
          <a:xfrm>
            <a:off x="533520" y="1550880"/>
            <a:ext cx="2895480" cy="2724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09480" y="2378160"/>
            <a:ext cx="2514600" cy="2286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Edit Location copy" descr=""/>
          <p:cNvPicPr/>
          <p:nvPr/>
        </p:nvPicPr>
        <p:blipFill>
          <a:blip r:embed="rId2"/>
          <a:stretch/>
        </p:blipFill>
        <p:spPr>
          <a:xfrm>
            <a:off x="4270320" y="1550880"/>
            <a:ext cx="2664000" cy="27432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0560" y="4375080"/>
            <a:ext cx="84301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oop Code should be set in your desktop PC for making external call. (Both of 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바탕"/>
              </a:rPr>
              <a:t>s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and 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바탕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party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DK system adds this number when making CO line Cal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very important to make CO line call with ‘ez Phone’ or other TAPI Clie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umbers which are saved in your address book of ez Phone should be more than 6 digit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218320" y="299880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869160" y="2754360"/>
            <a:ext cx="2209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 Input one digit [LOOP] number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) In Korea, Loop Number is ‘9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846520"/>
            <a:ext cx="609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2280" y="152280"/>
            <a:ext cx="48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 –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Server si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242680" y="501480"/>
            <a:ext cx="2179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Enabling TSP Serv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3520" y="836640"/>
          <a:ext cx="258264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6640"/>
                    <a:ext cx="25826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2881440" cy="3200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41440" y="2349360"/>
            <a:ext cx="4038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o open Telephony on Windows 2000/2003 Server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Click Star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u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Typ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pimgmt.ms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n the Action menu, click Propertie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4149720"/>
            <a:ext cx="43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u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ab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telephony ser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heck box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o enable the server the serve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1518480" y="149220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5933160" y="90792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33520" y="39625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18120" y="3701880"/>
            <a:ext cx="6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08800" y="50148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igning a ez Phone user to a line or ph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3520" y="692280"/>
            <a:ext cx="5478480" cy="308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3860640"/>
            <a:ext cx="8215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Open Telephon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In the console tree,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y Service Provider for LG Sy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 the details pane, und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 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lick the line or phon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nu,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t Us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d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k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lick the domain containing the us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In the list, select the user, and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57480" y="5300640"/>
            <a:ext cx="882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ocedure permits TAPI client programs run by the user to use the line or phone on the serv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user added for a phone or line must be in the same domain as the TAPI serve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in a domain that has a two-way trust relationship with the domain containing the serv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a user can use the telephony line or phone, the TAPI server must be specified on the client comput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152280"/>
            <a:ext cx="48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 –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Server si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728320" y="501480"/>
            <a:ext cx="16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ez Phone Setu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86200"/>
            <a:ext cx="40384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1. Open a Command Prompt window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2. Type [tcmsetup /c servername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Ex) In case that a server name is “QE2000server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o-KR" sz="1200" spc="-1" strike="noStrike">
                <a:solidFill>
                  <a:srgbClr val="ff3300"/>
                </a:solidFill>
                <a:latin typeface="Arial"/>
              </a:rPr>
              <a:t>tcmsetup /c qe2000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0" y="1968480"/>
            <a:ext cx="3305160" cy="17049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533520" y="1968480"/>
            <a:ext cx="3305160" cy="1704960"/>
            <a:chOff x="533520" y="1968480"/>
            <a:chExt cx="3305160" cy="170496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533520" y="1968480"/>
              <a:ext cx="3305160" cy="1704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74" name=""/>
            <p:cNvGraphicFramePr/>
            <p:nvPr/>
          </p:nvGraphicFramePr>
          <p:xfrm>
            <a:off x="1676520" y="2783160"/>
            <a:ext cx="685800" cy="13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2783160"/>
                      <a:ext cx="685800" cy="13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"/>
          <p:cNvSpPr/>
          <p:nvPr/>
        </p:nvSpPr>
        <p:spPr>
          <a:xfrm>
            <a:off x="530280" y="1371600"/>
            <a:ext cx="382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specify telephony servers on a client compu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 2000/X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569480" y="1371600"/>
            <a:ext cx="290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 disable from telephony serv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886200"/>
            <a:ext cx="403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1. Open a Command Prompt window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2. Type [tcmsetup /c /d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52280"/>
            <a:ext cx="48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Installations –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lient si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0480" y="1522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Window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1600" y="1041480"/>
            <a:ext cx="6400800" cy="4832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809880" y="1174680"/>
            <a:ext cx="121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Top Tool Ba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1514520" y="4152960"/>
            <a:ext cx="6184800" cy="1298520"/>
          </a:xfrm>
          <a:prstGeom prst="rect">
            <a:avLst/>
          </a:prstGeom>
          <a:solidFill>
            <a:srgbClr val="eaeaea">
              <a:alpha val="50000"/>
            </a:srgbClr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1413000" y="1384200"/>
            <a:ext cx="6294240" cy="287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5896080"/>
            <a:ext cx="167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Icon Menu(bott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413000" y="1727280"/>
            <a:ext cx="2520720" cy="1752480"/>
          </a:xfrm>
          <a:prstGeom prst="rect">
            <a:avLst/>
          </a:prstGeom>
          <a:solidFill>
            <a:srgbClr val="ffcccc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990960" y="1727280"/>
            <a:ext cx="3705120" cy="118728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990960" y="2955960"/>
            <a:ext cx="3705120" cy="523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32080" y="3768840"/>
            <a:ext cx="5364000" cy="328320"/>
          </a:xfrm>
          <a:prstGeom prst="rect">
            <a:avLst/>
          </a:prstGeom>
          <a:solidFill>
            <a:srgbClr val="66ffcc">
              <a:alpha val="5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1514520" y="5546880"/>
            <a:ext cx="6184800" cy="27756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1495440" y="3768840"/>
            <a:ext cx="799920" cy="2127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47760" y="3860640"/>
            <a:ext cx="0" cy="20304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266840" y="3870360"/>
            <a:ext cx="22860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1914480" y="2108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ll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286160" y="47847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 Inform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ouble Click &amp; Call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2352600"/>
            <a:ext cx="205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nform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311796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00"/>
                </a:solidFill>
                <a:latin typeface="Arial"/>
              </a:rPr>
              <a:t>Message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791480" y="1041480"/>
            <a:ext cx="450720" cy="68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267080" y="3851280"/>
            <a:ext cx="129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MS Schedul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89280" y="5845320"/>
            <a:ext cx="4414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Display Station Type Optional(Icon/List/Report/Small Ic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5941440" y="501480"/>
            <a:ext cx="147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Main Windo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413000" y="1039680"/>
            <a:ext cx="1558800" cy="3319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431640" y="1108080"/>
            <a:ext cx="91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Ma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11280" y="1628640"/>
            <a:ext cx="4392720" cy="34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1. Overview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2. Configu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3. Require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4. Conne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5. Major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6. Install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7. Window Descrip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8. Call Related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9. PC Related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115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19403" t="18700" r="54427" b="44066"/>
          <a:stretch/>
        </p:blipFill>
        <p:spPr>
          <a:xfrm>
            <a:off x="6829560" y="2719440"/>
            <a:ext cx="2057400" cy="2309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rcRect l="19323" t="18700" r="54350" b="44066"/>
          <a:stretch/>
        </p:blipFill>
        <p:spPr>
          <a:xfrm>
            <a:off x="4734000" y="2414520"/>
            <a:ext cx="2057400" cy="2309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rcRect l="19403" t="18700" r="54427" b="44066"/>
          <a:stretch/>
        </p:blipFill>
        <p:spPr>
          <a:xfrm>
            <a:off x="2638440" y="2033640"/>
            <a:ext cx="2057400" cy="2309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rcRect l="17369" t="18507" r="56603" b="44306"/>
          <a:stretch/>
        </p:blipFill>
        <p:spPr>
          <a:xfrm>
            <a:off x="533520" y="1700280"/>
            <a:ext cx="2057400" cy="2309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rcRect l="0" t="0" r="0" b="91316"/>
          <a:stretch/>
        </p:blipFill>
        <p:spPr>
          <a:xfrm>
            <a:off x="533520" y="1143000"/>
            <a:ext cx="7619760" cy="500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189480" y="501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Main Men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150480" y="1522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Window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150920"/>
            <a:ext cx="2819160" cy="1447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33520" y="3743280"/>
            <a:ext cx="1819080" cy="2284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429000" y="1150920"/>
            <a:ext cx="2276640" cy="1447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638440" y="3741840"/>
            <a:ext cx="2819520" cy="2306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5781600" y="1150920"/>
            <a:ext cx="214308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5715000" y="3741840"/>
            <a:ext cx="3048120" cy="2306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rcRect l="477" t="8334" r="477" b="85466"/>
          <a:stretch/>
        </p:blipFill>
        <p:spPr>
          <a:xfrm>
            <a:off x="533520" y="3013200"/>
            <a:ext cx="7546680" cy="357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962520" y="2065320"/>
            <a:ext cx="1218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Outl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016000" y="3370320"/>
            <a:ext cx="22248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6672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406520" y="2589120"/>
            <a:ext cx="403200" cy="403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70496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2752560" y="2979720"/>
            <a:ext cx="100044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381960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94360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2979720"/>
            <a:ext cx="10000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191304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/Of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313080" y="2589120"/>
            <a:ext cx="403200" cy="403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486400" y="2589120"/>
            <a:ext cx="403200" cy="403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696080" y="2589120"/>
            <a:ext cx="403200" cy="403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114440" y="3370320"/>
            <a:ext cx="22212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248160" y="3370320"/>
            <a:ext cx="22212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067440" y="501480"/>
            <a:ext cx="1353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Top Toolba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50480" y="1522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Window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6454800" y="3457440"/>
            <a:ext cx="18511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for Address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3962520"/>
            <a:ext cx="40384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3962520"/>
            <a:ext cx="40384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143000"/>
            <a:ext cx="40384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143000"/>
            <a:ext cx="40384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709" t="52650" r="831" b="42470"/>
          <a:stretch/>
        </p:blipFill>
        <p:spPr>
          <a:xfrm>
            <a:off x="533520" y="3429000"/>
            <a:ext cx="7502400" cy="281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rcRect l="1001" t="52650" r="1001" b="7614"/>
          <a:stretch/>
        </p:blipFill>
        <p:spPr>
          <a:xfrm>
            <a:off x="561960" y="1162080"/>
            <a:ext cx="3992400" cy="2020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rcRect l="1001" t="52650" r="1001" b="7614"/>
          <a:stretch/>
        </p:blipFill>
        <p:spPr>
          <a:xfrm>
            <a:off x="561960" y="3989520"/>
            <a:ext cx="3987720" cy="20271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rcRect l="1001" t="52650" r="1001" b="7614"/>
          <a:stretch/>
        </p:blipFill>
        <p:spPr>
          <a:xfrm>
            <a:off x="4676760" y="1162080"/>
            <a:ext cx="3983040" cy="2020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rcRect l="1001" t="52650" r="1001" b="7614"/>
          <a:stretch/>
        </p:blipFill>
        <p:spPr>
          <a:xfrm>
            <a:off x="4676760" y="3989520"/>
            <a:ext cx="3983040" cy="2006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200400" y="3676680"/>
            <a:ext cx="225360" cy="285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552680" y="3187800"/>
            <a:ext cx="257040" cy="257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202440" y="3452760"/>
            <a:ext cx="175896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325760" y="3452760"/>
            <a:ext cx="175896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468520" y="3452760"/>
            <a:ext cx="175896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92200" y="3452760"/>
            <a:ext cx="1758960" cy="228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2476440" y="4676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O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647640" y="4705200"/>
            <a:ext cx="1752840" cy="1073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00480" y="485784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676760" y="1428840"/>
            <a:ext cx="58104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5257800" y="2647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5533920" y="24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6831000" y="1628640"/>
            <a:ext cx="1779480" cy="614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22669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7391520" y="2476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105520" y="3187800"/>
            <a:ext cx="257040" cy="257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934320" y="3676680"/>
            <a:ext cx="225360" cy="285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4431240" y="501480"/>
            <a:ext cx="298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Station Information Window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50480" y="1522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Window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4619520" y="1295280"/>
            <a:ext cx="4067280" cy="2057400"/>
            <a:chOff x="4619520" y="1295280"/>
            <a:chExt cx="4067280" cy="2057400"/>
          </a:xfrm>
        </p:grpSpPr>
        <p:sp>
          <p:nvSpPr>
            <p:cNvPr id="366" name=""/>
            <p:cNvSpPr/>
            <p:nvPr/>
          </p:nvSpPr>
          <p:spPr>
            <a:xfrm>
              <a:off x="4648320" y="1295280"/>
              <a:ext cx="40384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1"/>
            <a:srcRect l="1001" t="52650" r="1001" b="7614"/>
            <a:stretch/>
          </p:blipFill>
          <p:spPr>
            <a:xfrm>
              <a:off x="4676760" y="1697040"/>
              <a:ext cx="39924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676760" y="2209680"/>
              <a:ext cx="3998880" cy="1096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19520" y="1828800"/>
              <a:ext cx="609840" cy="3049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1371600"/>
              <a:ext cx="30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 Display Station Type(ICON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04720" y="3575160"/>
            <a:ext cx="4067280" cy="2057400"/>
            <a:chOff x="504720" y="3575160"/>
            <a:chExt cx="4067280" cy="2057400"/>
          </a:xfrm>
        </p:grpSpPr>
        <p:sp>
          <p:nvSpPr>
            <p:cNvPr id="372" name=""/>
            <p:cNvSpPr/>
            <p:nvPr/>
          </p:nvSpPr>
          <p:spPr>
            <a:xfrm>
              <a:off x="533520" y="3575160"/>
              <a:ext cx="40384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373" name=""/>
            <p:cNvGraphicFramePr/>
            <p:nvPr/>
          </p:nvGraphicFramePr>
          <p:xfrm>
            <a:off x="533520" y="3956400"/>
            <a:ext cx="4038480" cy="167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3956400"/>
                      <a:ext cx="403848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"/>
            <p:cNvSpPr/>
            <p:nvPr/>
          </p:nvSpPr>
          <p:spPr>
            <a:xfrm>
              <a:off x="609480" y="3651480"/>
              <a:ext cx="30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 Display Station Type(SMALL ICON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1960" y="4453200"/>
              <a:ext cx="3998880" cy="1143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4720" y="4108680"/>
              <a:ext cx="609840" cy="3049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66680" y="4892760"/>
              <a:ext cx="30481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play Sta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 display station mor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648320" y="3575160"/>
            <a:ext cx="4056120" cy="2057400"/>
            <a:chOff x="4648320" y="3575160"/>
            <a:chExt cx="4056120" cy="2057400"/>
          </a:xfrm>
        </p:grpSpPr>
        <p:sp>
          <p:nvSpPr>
            <p:cNvPr id="380" name=""/>
            <p:cNvSpPr/>
            <p:nvPr/>
          </p:nvSpPr>
          <p:spPr>
            <a:xfrm>
              <a:off x="4648320" y="3575160"/>
              <a:ext cx="40384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4"/>
            <a:srcRect l="1001" t="52819" r="1001" b="7120"/>
            <a:stretch/>
          </p:blipFill>
          <p:spPr>
            <a:xfrm>
              <a:off x="4667400" y="3984480"/>
              <a:ext cx="401004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705200" y="4489560"/>
              <a:ext cx="3999240" cy="1096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48320" y="4108320"/>
              <a:ext cx="609480" cy="3049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24280" y="3651120"/>
              <a:ext cx="30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 Display Station Type(LIST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4720" y="1295280"/>
            <a:ext cx="4067280" cy="2063520"/>
            <a:chOff x="504720" y="1295280"/>
            <a:chExt cx="4067280" cy="2063520"/>
          </a:xfrm>
        </p:grpSpPr>
        <p:sp>
          <p:nvSpPr>
            <p:cNvPr id="386" name=""/>
            <p:cNvSpPr/>
            <p:nvPr/>
          </p:nvSpPr>
          <p:spPr>
            <a:xfrm>
              <a:off x="533520" y="1295280"/>
              <a:ext cx="403848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8040" y="2374560"/>
              <a:ext cx="182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Double Click &amp; Call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561960" y="1704600"/>
            <a:ext cx="4010040" cy="1654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1704600"/>
                      <a:ext cx="401004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561960" y="2209680"/>
              <a:ext cx="3998880" cy="1096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4720" y="1828440"/>
              <a:ext cx="609840" cy="3049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1371240"/>
              <a:ext cx="30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Display Station Type(REPORT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43040" y="501480"/>
            <a:ext cx="217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Display Station Typ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150480" y="1522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Window Descri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9760" y="1522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8. Call Related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533600"/>
            <a:ext cx="556236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Queuing / Answering Incom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ICM/CO Line Incom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Hold State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Transfer / Hold / Park Recall : Has Recent via Hist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err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Unscreened / Screened Transfe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ing Outgo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Station Inform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Address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Log Vie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Park and Retrie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erenc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NR(Automatic Call Number Redial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 / D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ord VMI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exible Button Assignmen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 Keyset S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428760" y="105408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Call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0480" y="15228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9. PC Related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735120" y="1527120"/>
            <a:ext cx="6649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Address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Manages Internal User / Custom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When Incoming Call, Searches Information on Phone 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DB Conv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Importing/Exporting(MS-Outlook, MS-Access, MS-Excel, ACT! , Goldmin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og Vie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chedule D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Customiz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op up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Black List Call Filte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428760" y="1055520"/>
            <a:ext cx="32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PC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26240" y="1216080"/>
            <a:ext cx="816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rovides easy &amp; powerful control of voice communications on your 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zPhone is Easy installed, maintained, graphical, user inter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zPhone has 2 kinds of packages (Entry, Delux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rovides Powerful features like SMS to extens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zPhone is Compatible to MS Outlook, ACT, GoldMine and m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zPhone follows Standard interface : TAP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619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here are two types of ez Phone version. One is an entry, the other is a delux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Please refer to the below table for each version’s functi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1874880"/>
            <a:ext cx="221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468680" y="1873080"/>
            <a:ext cx="2454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191760" y="1581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312240" y="15811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lux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982880" y="1913040"/>
            <a:ext cx="3063960" cy="73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DB, Capacity Limi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DKTU feat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165640" y="1913040"/>
            <a:ext cx="3063960" cy="73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 Conver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 to Key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tendant Integr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165640" y="2724120"/>
            <a:ext cx="306396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All Features of Entry Vers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Import DB (outloo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Export DB (outlook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VMIB contro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- MsgWa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- Out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- Paging Messag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Flex button assign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ACN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All features for Outlook are availabl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Outlook Contac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fferential ring by CL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d Di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ySet SM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Filter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VIP/Black List by DND/FWD/R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962000"/>
            <a:ext cx="1371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724120"/>
            <a:ext cx="1371600" cy="12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724120"/>
            <a:ext cx="306396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New Database Cre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- Ac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- Exc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Call Contro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Make 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Hold 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Park/Unpa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Transf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Import DB (Access, Exce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port DB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(Access, Exce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Print Address 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Forward(Internal, Off-net, VMIB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Always on to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All features for Outlook are no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체"/>
              </a:rPr>
              <a:t>availabl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1920" y="152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2.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901880"/>
            <a:ext cx="30463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589640" y="173520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5894280" y="4468680"/>
            <a:ext cx="0" cy="54612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4468680"/>
            <a:ext cx="0" cy="54612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7404120" y="2203560"/>
            <a:ext cx="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596360" y="1904760"/>
            <a:ext cx="0" cy="4921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862080" y="4443480"/>
            <a:ext cx="81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821360" y="5051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2203560"/>
            <a:ext cx="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43600" y="1904760"/>
            <a:ext cx="0" cy="4921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0720" y="3440160"/>
            <a:ext cx="573120" cy="974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19520" y="2033640"/>
            <a:ext cx="3678480" cy="3029040"/>
          </a:xfrm>
          <a:custGeom>
            <a:avLst/>
            <a:gdLst/>
            <a:ahLst/>
            <a:rect l="l" t="t" r="r" b="b"/>
            <a:pathLst>
              <a:path w="13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  <a:lnTo>
                  <a:pt x="1344" y="864"/>
                </a:ln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95920" y="3849120"/>
            <a:ext cx="269640" cy="1774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281720" y="4983120"/>
            <a:ext cx="271440" cy="1778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54600" y="4983120"/>
            <a:ext cx="271440" cy="17784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529160" y="3927600"/>
            <a:ext cx="511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00280" y="1125360"/>
            <a:ext cx="2142720" cy="1903320"/>
            <a:chOff x="800280" y="1125360"/>
            <a:chExt cx="2142720" cy="1903320"/>
          </a:xfrm>
        </p:grpSpPr>
        <p:sp>
          <p:nvSpPr>
            <p:cNvPr id="88" name=""/>
            <p:cNvSpPr/>
            <p:nvPr/>
          </p:nvSpPr>
          <p:spPr>
            <a:xfrm>
              <a:off x="1593000" y="2273040"/>
              <a:ext cx="472680" cy="7556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9000" y="1125360"/>
              <a:ext cx="721440" cy="7178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45800" y="1166400"/>
              <a:ext cx="523080" cy="5684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68640" y="1125360"/>
              <a:ext cx="355320" cy="39996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280" y="1989360"/>
              <a:ext cx="426600" cy="53748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11480" y="2372400"/>
              <a:ext cx="432360" cy="50328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7120" y="2212560"/>
              <a:ext cx="477000" cy="51876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5280" y="1592280"/>
              <a:ext cx="456120" cy="4604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720" y="1138680"/>
              <a:ext cx="177480" cy="17172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4680" y="1491120"/>
              <a:ext cx="108000" cy="13896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1440" y="1822680"/>
              <a:ext cx="601560" cy="70776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6360" y="1410480"/>
              <a:ext cx="113760" cy="16128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1360" y="1528920"/>
              <a:ext cx="278280" cy="33480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9520" y="1819080"/>
              <a:ext cx="156600" cy="1976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4880" y="2613240"/>
              <a:ext cx="154080" cy="20952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5480" y="2760840"/>
              <a:ext cx="149760" cy="19368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8680" y="2635200"/>
              <a:ext cx="181800" cy="20448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13840" y="2477160"/>
              <a:ext cx="247320" cy="2732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65040" y="2362320"/>
              <a:ext cx="383760" cy="377640"/>
            </a:xfrm>
            <a:prstGeom prst="ellipse">
              <a:avLst/>
            </a:prstGeom>
            <a:solidFill>
              <a:srgbClr val="acc8e4"/>
            </a:solidFill>
            <a:ln w="0">
              <a:noFill/>
            </a:ln>
            <a:effectLst>
              <a:outerShdw dist="17819" dir="2700000" blurRad="0" rotWithShape="0">
                <a:srgbClr val="6677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2520" y="1166400"/>
              <a:ext cx="1976400" cy="17917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397" y="4"/>
                  </a:moveTo>
                  <a:lnTo>
                    <a:pt x="431" y="18"/>
                  </a:lnTo>
                  <a:lnTo>
                    <a:pt x="447" y="2"/>
                  </a:lnTo>
                  <a:lnTo>
                    <a:pt x="475" y="6"/>
                  </a:lnTo>
                  <a:lnTo>
                    <a:pt x="487" y="19"/>
                  </a:lnTo>
                  <a:lnTo>
                    <a:pt x="520" y="13"/>
                  </a:lnTo>
                  <a:lnTo>
                    <a:pt x="600" y="42"/>
                  </a:lnTo>
                  <a:lnTo>
                    <a:pt x="632" y="86"/>
                  </a:lnTo>
                  <a:lnTo>
                    <a:pt x="638" y="124"/>
                  </a:lnTo>
                  <a:lnTo>
                    <a:pt x="665" y="132"/>
                  </a:lnTo>
                  <a:lnTo>
                    <a:pt x="668" y="153"/>
                  </a:lnTo>
                  <a:lnTo>
                    <a:pt x="684" y="162"/>
                  </a:lnTo>
                  <a:lnTo>
                    <a:pt x="717" y="180"/>
                  </a:lnTo>
                  <a:lnTo>
                    <a:pt x="744" y="215"/>
                  </a:lnTo>
                  <a:lnTo>
                    <a:pt x="744" y="244"/>
                  </a:lnTo>
                  <a:lnTo>
                    <a:pt x="757" y="252"/>
                  </a:lnTo>
                  <a:lnTo>
                    <a:pt x="810" y="329"/>
                  </a:lnTo>
                  <a:lnTo>
                    <a:pt x="708" y="462"/>
                  </a:lnTo>
                  <a:lnTo>
                    <a:pt x="674" y="466"/>
                  </a:lnTo>
                  <a:lnTo>
                    <a:pt x="665" y="505"/>
                  </a:lnTo>
                  <a:lnTo>
                    <a:pt x="563" y="532"/>
                  </a:lnTo>
                  <a:lnTo>
                    <a:pt x="542" y="524"/>
                  </a:lnTo>
                  <a:lnTo>
                    <a:pt x="542" y="532"/>
                  </a:lnTo>
                  <a:lnTo>
                    <a:pt x="535" y="539"/>
                  </a:lnTo>
                  <a:lnTo>
                    <a:pt x="525" y="543"/>
                  </a:lnTo>
                  <a:lnTo>
                    <a:pt x="505" y="546"/>
                  </a:lnTo>
                  <a:lnTo>
                    <a:pt x="490" y="546"/>
                  </a:lnTo>
                  <a:lnTo>
                    <a:pt x="487" y="553"/>
                  </a:lnTo>
                  <a:lnTo>
                    <a:pt x="492" y="562"/>
                  </a:lnTo>
                  <a:lnTo>
                    <a:pt x="490" y="570"/>
                  </a:lnTo>
                  <a:lnTo>
                    <a:pt x="465" y="580"/>
                  </a:lnTo>
                  <a:lnTo>
                    <a:pt x="452" y="580"/>
                  </a:lnTo>
                  <a:lnTo>
                    <a:pt x="452" y="599"/>
                  </a:lnTo>
                  <a:lnTo>
                    <a:pt x="443" y="609"/>
                  </a:lnTo>
                  <a:lnTo>
                    <a:pt x="370" y="639"/>
                  </a:lnTo>
                  <a:lnTo>
                    <a:pt x="330" y="626"/>
                  </a:lnTo>
                  <a:lnTo>
                    <a:pt x="318" y="613"/>
                  </a:lnTo>
                  <a:lnTo>
                    <a:pt x="298" y="618"/>
                  </a:lnTo>
                  <a:lnTo>
                    <a:pt x="285" y="616"/>
                  </a:lnTo>
                  <a:lnTo>
                    <a:pt x="278" y="608"/>
                  </a:lnTo>
                  <a:lnTo>
                    <a:pt x="277" y="599"/>
                  </a:lnTo>
                  <a:lnTo>
                    <a:pt x="274" y="589"/>
                  </a:lnTo>
                  <a:lnTo>
                    <a:pt x="256" y="591"/>
                  </a:lnTo>
                  <a:lnTo>
                    <a:pt x="220" y="580"/>
                  </a:lnTo>
                  <a:lnTo>
                    <a:pt x="196" y="563"/>
                  </a:lnTo>
                  <a:lnTo>
                    <a:pt x="175" y="572"/>
                  </a:lnTo>
                  <a:lnTo>
                    <a:pt x="155" y="562"/>
                  </a:lnTo>
                  <a:lnTo>
                    <a:pt x="149" y="541"/>
                  </a:lnTo>
                  <a:lnTo>
                    <a:pt x="130" y="541"/>
                  </a:lnTo>
                  <a:lnTo>
                    <a:pt x="57" y="500"/>
                  </a:lnTo>
                  <a:lnTo>
                    <a:pt x="49" y="462"/>
                  </a:lnTo>
                  <a:lnTo>
                    <a:pt x="27" y="462"/>
                  </a:lnTo>
                  <a:lnTo>
                    <a:pt x="0" y="379"/>
                  </a:lnTo>
                  <a:lnTo>
                    <a:pt x="32" y="305"/>
                  </a:lnTo>
                  <a:lnTo>
                    <a:pt x="70" y="295"/>
                  </a:lnTo>
                  <a:lnTo>
                    <a:pt x="65" y="271"/>
                  </a:lnTo>
                  <a:lnTo>
                    <a:pt x="75" y="239"/>
                  </a:lnTo>
                  <a:lnTo>
                    <a:pt x="100" y="232"/>
                  </a:lnTo>
                  <a:lnTo>
                    <a:pt x="88" y="195"/>
                  </a:lnTo>
                  <a:lnTo>
                    <a:pt x="97" y="162"/>
                  </a:lnTo>
                  <a:lnTo>
                    <a:pt x="117" y="139"/>
                  </a:lnTo>
                  <a:lnTo>
                    <a:pt x="147" y="139"/>
                  </a:lnTo>
                  <a:lnTo>
                    <a:pt x="138" y="114"/>
                  </a:lnTo>
                  <a:lnTo>
                    <a:pt x="152" y="93"/>
                  </a:lnTo>
                  <a:lnTo>
                    <a:pt x="174" y="86"/>
                  </a:lnTo>
                  <a:lnTo>
                    <a:pt x="166" y="61"/>
                  </a:lnTo>
                  <a:lnTo>
                    <a:pt x="192" y="8"/>
                  </a:lnTo>
                  <a:lnTo>
                    <a:pt x="253" y="0"/>
                  </a:lnTo>
                  <a:lnTo>
                    <a:pt x="274" y="13"/>
                  </a:lnTo>
                  <a:lnTo>
                    <a:pt x="292" y="0"/>
                  </a:lnTo>
                  <a:lnTo>
                    <a:pt x="397" y="4"/>
                  </a:lnTo>
                </a:path>
              </a:pathLst>
            </a:custGeom>
            <a:solidFill>
              <a:srgbClr val="acc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800280" y="3187800"/>
            <a:ext cx="1996560" cy="2074320"/>
            <a:chOff x="800280" y="3187800"/>
            <a:chExt cx="1996560" cy="2074320"/>
          </a:xfrm>
        </p:grpSpPr>
        <p:sp>
          <p:nvSpPr>
            <p:cNvPr id="109" name=""/>
            <p:cNvSpPr/>
            <p:nvPr/>
          </p:nvSpPr>
          <p:spPr>
            <a:xfrm>
              <a:off x="1539000" y="4438440"/>
              <a:ext cx="440280" cy="82368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20840" y="3187800"/>
              <a:ext cx="672120" cy="78228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67680" y="3232800"/>
              <a:ext cx="487440" cy="61920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36600" y="3187800"/>
              <a:ext cx="331200" cy="43596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4129560"/>
              <a:ext cx="397440" cy="58572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6560" y="4546800"/>
              <a:ext cx="402840" cy="54828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74160" y="4372560"/>
              <a:ext cx="444600" cy="56556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83760" y="3696840"/>
              <a:ext cx="425160" cy="5018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3120" y="3202560"/>
              <a:ext cx="165600" cy="18720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23440" y="3586320"/>
              <a:ext cx="100800" cy="15156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6320" y="3947760"/>
              <a:ext cx="560520" cy="77148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8640" y="3498480"/>
              <a:ext cx="105840" cy="17568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2640" y="3627360"/>
              <a:ext cx="259560" cy="3650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4760" y="3943800"/>
              <a:ext cx="146160" cy="2156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4280" y="4809240"/>
              <a:ext cx="143640" cy="2282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4720" y="4970160"/>
              <a:ext cx="139320" cy="21132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0560" y="4833360"/>
              <a:ext cx="169560" cy="2228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31040" y="4660920"/>
              <a:ext cx="230400" cy="29772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72160" y="4535640"/>
              <a:ext cx="357480" cy="411840"/>
            </a:xfrm>
            <a:prstGeom prst="ellipse">
              <a:avLst/>
            </a:prstGeom>
            <a:solidFill>
              <a:srgbClr val="c4e0be"/>
            </a:solidFill>
            <a:ln w="0">
              <a:noFill/>
            </a:ln>
            <a:effectLst>
              <a:outerShdw dist="17819" dir="2700000" blurRad="0" rotWithShape="0">
                <a:srgbClr val="7585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95680" y="3232800"/>
              <a:ext cx="1841760" cy="195264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397" y="4"/>
                  </a:moveTo>
                  <a:lnTo>
                    <a:pt x="431" y="18"/>
                  </a:lnTo>
                  <a:lnTo>
                    <a:pt x="447" y="2"/>
                  </a:lnTo>
                  <a:lnTo>
                    <a:pt x="475" y="6"/>
                  </a:lnTo>
                  <a:lnTo>
                    <a:pt x="487" y="19"/>
                  </a:lnTo>
                  <a:lnTo>
                    <a:pt x="520" y="13"/>
                  </a:lnTo>
                  <a:lnTo>
                    <a:pt x="600" y="42"/>
                  </a:lnTo>
                  <a:lnTo>
                    <a:pt x="632" y="86"/>
                  </a:lnTo>
                  <a:lnTo>
                    <a:pt x="638" y="124"/>
                  </a:lnTo>
                  <a:lnTo>
                    <a:pt x="665" y="132"/>
                  </a:lnTo>
                  <a:lnTo>
                    <a:pt x="668" y="153"/>
                  </a:lnTo>
                  <a:lnTo>
                    <a:pt x="684" y="162"/>
                  </a:lnTo>
                  <a:lnTo>
                    <a:pt x="717" y="180"/>
                  </a:lnTo>
                  <a:lnTo>
                    <a:pt x="744" y="215"/>
                  </a:lnTo>
                  <a:lnTo>
                    <a:pt x="744" y="244"/>
                  </a:lnTo>
                  <a:lnTo>
                    <a:pt x="757" y="252"/>
                  </a:lnTo>
                  <a:lnTo>
                    <a:pt x="810" y="329"/>
                  </a:lnTo>
                  <a:lnTo>
                    <a:pt x="708" y="462"/>
                  </a:lnTo>
                  <a:lnTo>
                    <a:pt x="674" y="466"/>
                  </a:lnTo>
                  <a:lnTo>
                    <a:pt x="665" y="505"/>
                  </a:lnTo>
                  <a:lnTo>
                    <a:pt x="563" y="532"/>
                  </a:lnTo>
                  <a:lnTo>
                    <a:pt x="542" y="524"/>
                  </a:lnTo>
                  <a:lnTo>
                    <a:pt x="542" y="532"/>
                  </a:lnTo>
                  <a:lnTo>
                    <a:pt x="535" y="539"/>
                  </a:lnTo>
                  <a:lnTo>
                    <a:pt x="525" y="543"/>
                  </a:lnTo>
                  <a:lnTo>
                    <a:pt x="505" y="546"/>
                  </a:lnTo>
                  <a:lnTo>
                    <a:pt x="490" y="546"/>
                  </a:lnTo>
                  <a:lnTo>
                    <a:pt x="487" y="553"/>
                  </a:lnTo>
                  <a:lnTo>
                    <a:pt x="492" y="562"/>
                  </a:lnTo>
                  <a:lnTo>
                    <a:pt x="490" y="570"/>
                  </a:lnTo>
                  <a:lnTo>
                    <a:pt x="465" y="580"/>
                  </a:lnTo>
                  <a:lnTo>
                    <a:pt x="452" y="580"/>
                  </a:lnTo>
                  <a:lnTo>
                    <a:pt x="452" y="599"/>
                  </a:lnTo>
                  <a:lnTo>
                    <a:pt x="443" y="609"/>
                  </a:lnTo>
                  <a:lnTo>
                    <a:pt x="370" y="639"/>
                  </a:lnTo>
                  <a:lnTo>
                    <a:pt x="330" y="626"/>
                  </a:lnTo>
                  <a:lnTo>
                    <a:pt x="318" y="613"/>
                  </a:lnTo>
                  <a:lnTo>
                    <a:pt x="298" y="618"/>
                  </a:lnTo>
                  <a:lnTo>
                    <a:pt x="285" y="616"/>
                  </a:lnTo>
                  <a:lnTo>
                    <a:pt x="278" y="608"/>
                  </a:lnTo>
                  <a:lnTo>
                    <a:pt x="277" y="599"/>
                  </a:lnTo>
                  <a:lnTo>
                    <a:pt x="274" y="589"/>
                  </a:lnTo>
                  <a:lnTo>
                    <a:pt x="256" y="591"/>
                  </a:lnTo>
                  <a:lnTo>
                    <a:pt x="220" y="580"/>
                  </a:lnTo>
                  <a:lnTo>
                    <a:pt x="196" y="563"/>
                  </a:lnTo>
                  <a:lnTo>
                    <a:pt x="175" y="572"/>
                  </a:lnTo>
                  <a:lnTo>
                    <a:pt x="155" y="562"/>
                  </a:lnTo>
                  <a:lnTo>
                    <a:pt x="149" y="541"/>
                  </a:lnTo>
                  <a:lnTo>
                    <a:pt x="130" y="541"/>
                  </a:lnTo>
                  <a:lnTo>
                    <a:pt x="57" y="500"/>
                  </a:lnTo>
                  <a:lnTo>
                    <a:pt x="49" y="462"/>
                  </a:lnTo>
                  <a:lnTo>
                    <a:pt x="27" y="462"/>
                  </a:lnTo>
                  <a:lnTo>
                    <a:pt x="0" y="379"/>
                  </a:lnTo>
                  <a:lnTo>
                    <a:pt x="32" y="305"/>
                  </a:lnTo>
                  <a:lnTo>
                    <a:pt x="70" y="295"/>
                  </a:lnTo>
                  <a:lnTo>
                    <a:pt x="65" y="271"/>
                  </a:lnTo>
                  <a:lnTo>
                    <a:pt x="75" y="239"/>
                  </a:lnTo>
                  <a:lnTo>
                    <a:pt x="100" y="232"/>
                  </a:lnTo>
                  <a:lnTo>
                    <a:pt x="88" y="195"/>
                  </a:lnTo>
                  <a:lnTo>
                    <a:pt x="97" y="162"/>
                  </a:lnTo>
                  <a:lnTo>
                    <a:pt x="117" y="139"/>
                  </a:lnTo>
                  <a:lnTo>
                    <a:pt x="147" y="139"/>
                  </a:lnTo>
                  <a:lnTo>
                    <a:pt x="138" y="114"/>
                  </a:lnTo>
                  <a:lnTo>
                    <a:pt x="152" y="93"/>
                  </a:lnTo>
                  <a:lnTo>
                    <a:pt x="174" y="86"/>
                  </a:lnTo>
                  <a:lnTo>
                    <a:pt x="166" y="61"/>
                  </a:lnTo>
                  <a:lnTo>
                    <a:pt x="192" y="8"/>
                  </a:lnTo>
                  <a:lnTo>
                    <a:pt x="253" y="0"/>
                  </a:lnTo>
                  <a:lnTo>
                    <a:pt x="274" y="13"/>
                  </a:lnTo>
                  <a:lnTo>
                    <a:pt x="292" y="0"/>
                  </a:lnTo>
                  <a:lnTo>
                    <a:pt x="397" y="4"/>
                  </a:lnTo>
                </a:path>
              </a:pathLst>
            </a:custGeom>
            <a:solidFill>
              <a:srgbClr val="c4e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06160" y="11826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K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486800" y="18543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383120" y="40053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922480" y="2197080"/>
            <a:ext cx="70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432160" y="2460600"/>
            <a:ext cx="1263600" cy="1090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437080" y="31989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zPh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878520" y="319896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zPhon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59280" y="1542960"/>
            <a:ext cx="1723680" cy="17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2160" y="226368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226368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435640" y="3521160"/>
            <a:ext cx="1050840" cy="885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804000" y="3559320"/>
            <a:ext cx="10508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33720" y="3505320"/>
            <a:ext cx="617220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 Win 98 or Higher ez Phone Program(CTI Applica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O35Registor.ex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to install LG TAPI-driver packed together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143000"/>
            <a:ext cx="61722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      :  Win 98, Window NT, Window 2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 ME, Window XP home/pro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                    :  Minimum Pentium III 300 MHz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                            :  128 MB (Min. 64M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Hard Space  :  200 MB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Card                  :  SVGA(Min. 256 colors/800x60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51920" y="1522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Requir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144612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/W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2583000"/>
            <a:ext cx="232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505320"/>
            <a:ext cx="1446120" cy="93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W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0480" y="15228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Connections(1/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97164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following Figure shows the 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of LDK system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P Address for PC should be installed in PGM 126 Station IP Lis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446076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DK TSP installed(1</a:t>
            </a:r>
            <a:r>
              <a:rPr b="1" lang="en-US" sz="12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P Address 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3640" y="3429000"/>
            <a:ext cx="1224000" cy="1030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519280" cy="2487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12000" y="2000160"/>
            <a:ext cx="1655640" cy="1217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64000" y="249228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373720"/>
            <a:ext cx="6408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4292640"/>
            <a:ext cx="0" cy="1081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4941720"/>
            <a:ext cx="0" cy="43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436572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N port on BMB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P Address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315432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tation (DKTU or SL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0480" y="15228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Connections(2/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14240" y="2225520"/>
            <a:ext cx="4543560" cy="3841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531800" y="4862520"/>
            <a:ext cx="189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928800" y="2263680"/>
            <a:ext cx="1692000" cy="3606840"/>
          </a:xfrm>
          <a:custGeom>
            <a:avLst/>
            <a:gdLst>
              <a:gd name="textAreaLeft" fmla="*/ 247680 w 1692000"/>
              <a:gd name="textAreaRight" fmla="*/ 1444320 w 1692000"/>
              <a:gd name="textAreaTop" fmla="*/ 247680 h 3606840"/>
              <a:gd name="textAreaBottom" fmla="*/ 3359160 h 3606840"/>
            </a:gdLst>
            <a:ahLst/>
            <a:rect l="textAreaLeft" t="textAreaTop" r="textAreaRight" b="textAreaBottom"/>
            <a:pathLst>
              <a:path w="21600" h="46040">
                <a:moveTo>
                  <a:pt x="10800" y="0"/>
                </a:moveTo>
                <a:arcTo wR="10800" hR="10800" stAng="16200000" swAng="-5400000"/>
                <a:lnTo>
                  <a:pt x="0" y="35240"/>
                </a:lnTo>
                <a:arcTo wR="10800" hR="10800" stAng="10800000" swAng="-5400000"/>
                <a:lnTo>
                  <a:pt x="10800" y="4604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78920" y="3286080"/>
            <a:ext cx="148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 : Windows NT/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0 Serv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76400" y="2523960"/>
            <a:ext cx="1431720" cy="801720"/>
            <a:chOff x="1076400" y="2523960"/>
            <a:chExt cx="1431720" cy="801720"/>
          </a:xfrm>
        </p:grpSpPr>
        <p:sp>
          <p:nvSpPr>
            <p:cNvPr id="165" name=""/>
            <p:cNvSpPr/>
            <p:nvPr/>
          </p:nvSpPr>
          <p:spPr>
            <a:xfrm>
              <a:off x="1336680" y="2523960"/>
              <a:ext cx="824400" cy="40068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83720" y="2674080"/>
              <a:ext cx="824400" cy="40068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6960" y="2924640"/>
              <a:ext cx="824400" cy="40104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9920" y="2924640"/>
              <a:ext cx="824040" cy="40104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76400" y="2724480"/>
              <a:ext cx="824400" cy="40068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3120" y="2624040"/>
              <a:ext cx="1041120" cy="60120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77840" y="2225520"/>
            <a:ext cx="174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DK TSP installed(3</a:t>
            </a:r>
            <a:r>
              <a:rPr b="1" lang="en-US" sz="1200" spc="-1" strike="noStrike" baseline="30000">
                <a:solidFill>
                  <a:srgbClr val="3333cc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058760" y="2330280"/>
            <a:ext cx="0" cy="3540240"/>
          </a:xfrm>
          <a:prstGeom prst="line">
            <a:avLst/>
          </a:prstGeom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058760" y="2925720"/>
            <a:ext cx="455760" cy="0"/>
          </a:xfrm>
          <a:prstGeom prst="line">
            <a:avLst/>
          </a:prstGeom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4133880"/>
            <a:ext cx="455760" cy="0"/>
          </a:xfrm>
          <a:prstGeom prst="line">
            <a:avLst/>
          </a:prstGeom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058760" y="5183280"/>
            <a:ext cx="455760" cy="0"/>
          </a:xfrm>
          <a:prstGeom prst="line">
            <a:avLst/>
          </a:prstGeom>
          <a:ln cap="sq"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2771640"/>
            <a:ext cx="166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DK serial port Or 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060920" y="4368960"/>
            <a:ext cx="123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 : Window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8/NT/2000/X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060920" y="5430960"/>
            <a:ext cx="123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ent : Window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8/NT/2000/X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774160" y="47973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KT/S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183400" y="578952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Keyset : DKT/S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54240" y="2590920"/>
          <a:ext cx="117144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2590920"/>
                    <a:ext cx="1171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347200" y="3013200"/>
            <a:ext cx="54540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indows Domain        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668880" y="273384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58760" y="2849400"/>
            <a:ext cx="1171800" cy="129096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864" y="0"/>
                </a:moveTo>
                <a:cubicBezTo>
                  <a:pt x="648" y="24"/>
                  <a:pt x="432" y="48"/>
                  <a:pt x="288" y="144"/>
                </a:cubicBezTo>
                <a:cubicBezTo>
                  <a:pt x="144" y="240"/>
                  <a:pt x="0" y="432"/>
                  <a:pt x="0" y="576"/>
                </a:cubicBezTo>
                <a:cubicBezTo>
                  <a:pt x="0" y="720"/>
                  <a:pt x="208" y="936"/>
                  <a:pt x="288" y="1008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17640" y="2687760"/>
            <a:ext cx="1312920" cy="2479680"/>
          </a:xfrm>
          <a:custGeom>
            <a:avLst/>
            <a:gdLst/>
            <a:ahLst/>
            <a:rect l="l" t="t" r="r" b="b"/>
            <a:pathLst>
              <a:path w="968" h="1872">
                <a:moveTo>
                  <a:pt x="968" y="0"/>
                </a:moveTo>
                <a:cubicBezTo>
                  <a:pt x="780" y="28"/>
                  <a:pt x="592" y="56"/>
                  <a:pt x="440" y="144"/>
                </a:cubicBezTo>
                <a:cubicBezTo>
                  <a:pt x="288" y="232"/>
                  <a:pt x="112" y="288"/>
                  <a:pt x="56" y="528"/>
                </a:cubicBezTo>
                <a:cubicBezTo>
                  <a:pt x="0" y="768"/>
                  <a:pt x="56" y="1360"/>
                  <a:pt x="104" y="1584"/>
                </a:cubicBezTo>
                <a:cubicBezTo>
                  <a:pt x="152" y="1808"/>
                  <a:pt x="272" y="1840"/>
                  <a:pt x="344" y="1872"/>
                </a:cubicBezTo>
              </a:path>
            </a:pathLst>
          </a:custGeom>
          <a:noFill/>
          <a:ln cap="sq"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36680" y="3840120"/>
            <a:ext cx="806400" cy="577800"/>
            <a:chOff x="1336680" y="3840120"/>
            <a:chExt cx="806400" cy="577800"/>
          </a:xfrm>
        </p:grpSpPr>
        <p:sp>
          <p:nvSpPr>
            <p:cNvPr id="188" name=""/>
            <p:cNvSpPr/>
            <p:nvPr/>
          </p:nvSpPr>
          <p:spPr>
            <a:xfrm>
              <a:off x="1452960" y="3952800"/>
              <a:ext cx="410400" cy="2808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1336680" y="3840120"/>
            <a:ext cx="80640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6680" y="3840120"/>
                      <a:ext cx="80640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1" name=""/>
          <p:cNvGrpSpPr/>
          <p:nvPr/>
        </p:nvGrpSpPr>
        <p:grpSpPr>
          <a:xfrm>
            <a:off x="1336680" y="4892760"/>
            <a:ext cx="806400" cy="577800"/>
            <a:chOff x="1336680" y="4892760"/>
            <a:chExt cx="806400" cy="577800"/>
          </a:xfrm>
        </p:grpSpPr>
        <p:sp>
          <p:nvSpPr>
            <p:cNvPr id="192" name=""/>
            <p:cNvSpPr/>
            <p:nvPr/>
          </p:nvSpPr>
          <p:spPr>
            <a:xfrm>
              <a:off x="1452960" y="5005440"/>
              <a:ext cx="410400" cy="28080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1336680" y="4892760"/>
            <a:ext cx="806400" cy="577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36680" y="4892760"/>
                      <a:ext cx="80640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5" name=""/>
          <p:cNvSpPr/>
          <p:nvPr/>
        </p:nvSpPr>
        <p:spPr>
          <a:xfrm>
            <a:off x="2967480" y="2616120"/>
            <a:ext cx="109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trol 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96880" y="1542960"/>
            <a:ext cx="64515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is connected to the LDK system through serial port or LA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user can us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all keys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nected to the LDK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 user can us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his keys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ssigned by Server P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225520"/>
            <a:ext cx="3353040" cy="3841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TAPI Server should set each user f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ez Phone line assignme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his setting should be needed 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xpert for TAPI server manag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687760" y="3073320"/>
            <a:ext cx="1739880" cy="1524240"/>
            <a:chOff x="2687760" y="3073320"/>
            <a:chExt cx="1739880" cy="1524240"/>
          </a:xfrm>
        </p:grpSpPr>
        <p:sp>
          <p:nvSpPr>
            <p:cNvPr id="199" name=""/>
            <p:cNvSpPr/>
            <p:nvPr/>
          </p:nvSpPr>
          <p:spPr>
            <a:xfrm>
              <a:off x="2687760" y="3073320"/>
              <a:ext cx="1739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09440" y="4597560"/>
              <a:ext cx="1617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2160" y="3073320"/>
              <a:ext cx="0" cy="152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27280" y="2997360"/>
            <a:ext cx="2100240" cy="2303280"/>
            <a:chOff x="2627280" y="2997360"/>
            <a:chExt cx="2100240" cy="2303280"/>
          </a:xfrm>
        </p:grpSpPr>
        <p:sp>
          <p:nvSpPr>
            <p:cNvPr id="203" name=""/>
            <p:cNvSpPr/>
            <p:nvPr/>
          </p:nvSpPr>
          <p:spPr>
            <a:xfrm>
              <a:off x="2627280" y="2997360"/>
              <a:ext cx="210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73800" y="5300640"/>
              <a:ext cx="195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08440" y="2997360"/>
              <a:ext cx="0" cy="23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32840" y="501480"/>
            <a:ext cx="97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3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돋움체"/>
              </a:rPr>
              <a:t>r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체"/>
              </a:rPr>
              <a:t> Part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97164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following Figure shows 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of LDK system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140360" y="3284640"/>
            <a:ext cx="1001520" cy="98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2195640" y="4437000"/>
            <a:ext cx="576000" cy="42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2195640" y="5092560"/>
            <a:ext cx="576000" cy="424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74160" y="530064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KT/S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981000"/>
            <a:ext cx="8229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Language Translation : User can change the local language text easil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User DB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luxe Version On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: MS Outlook, Access, Symantec ACT, Goldmin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Pad &amp; Mouse ope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can define each key with feature in option wind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flexible configur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 Message(PC to DKT:48 character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PC to DKTU :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m DKTU to PC : Not possi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 between PC Phones : PC to PC, like MSN Messenger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luxe Version On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er Information Display : Call History(Call Log view featur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ful Graphic User 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ial ring by CL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IB Control, ACN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Filtering : VIP/Black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endant Integration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luxe Version On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d Dial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luxe Version On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50840" y="15228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Major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김완경</cp:lastModifiedBy>
  <dcterms:modified xsi:type="dcterms:W3CDTF">2007-03-11T08:35:16Z</dcterms:modified>
  <cp:revision>103</cp:revision>
  <dc:subject/>
  <dc:title>PowerPoint 프레젠테이션</dc:title>
</cp:coreProperties>
</file>